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0.png" ContentType="image/png"/>
  <Override PartName="/ppt/media/image17.jpeg" ContentType="image/jpeg"/>
  <Override PartName="/ppt/media/image14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80CC-B5AF-41DE-90AE-0851184C6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11C3-DD4A-4529-BD88-B4B5F7D94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A8CA-EBA4-4E2A-9A97-C73B3B05F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9C62-2B0D-466A-9B2A-B027454E8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D4DE-6950-4C7F-B38E-FF6D907CE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76F8-49BF-4551-B949-78D7C1913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7873-BD73-4DF9-B9EE-0848DD151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FEB7-29BC-40A4-B4EA-71F803CEC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1475-2A04-4607-A66E-4A3BDBE98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092E-9EF9-4350-90C2-006F5A325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9699-89FA-42A7-9C1D-812515150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0CA5-8794-46D0-9017-2BD8F0082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ECAB-7065-4470-A437-C8BE81E5F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FAC7-B1DD-4ADB-99F0-428B73D91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A58E-931E-41E8-BB3B-2D2174D3F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C526-7679-4758-9173-6564FCF3F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1537-92C5-474C-88B1-1225C14AF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FFDF-ECB0-40C3-BD44-0E058D2D0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EAFE-597C-4DB2-8841-FE7126FED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0B73-593C-4D43-A134-3BE3ABE9E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D1AD-2E8F-48DD-BFCF-2AE143FB8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22C6-8B9E-4C50-87C9-A9B1BB27E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C69E-4D51-4DDB-9B77-4E5396952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44C5-A042-4504-BE7D-35C7FC7FC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E5E3-D812-43CA-AA02-D8CDDA71F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AA40-162C-438C-8A1C-AA52320A4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66A1-E99B-46D4-81A0-FADC4272B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9C50-AE1F-4986-8CBD-6E000D97E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07D6-0EDD-4F10-B838-5A8E54F5A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BB1B-51FE-4831-A0CE-125C982DB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E2C9-0407-464E-812E-D3D9CD6F3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6436-6DB4-4057-9464-3F4978874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3625-396A-4D51-8184-8C053266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E9C6-94DA-4D7A-8E2F-DD62BDD6D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8679-6197-4332-8989-A78FA4F1E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9832-5EFE-4BD9-942B-4CD977CDD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5295-B237-4D82-94DA-864AC5D4A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D55E-00B3-4FA9-B059-69ABD29A5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8216-5FD0-414E-9299-5F2996B6C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1321-DEA9-4063-A171-889430053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89CC-0586-419A-A7DB-651372581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F5EA-4700-4728-9510-3A90032A2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50CB-E1A7-494D-A4AE-E88FF9F06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FE5E-04B7-4D99-B98A-843B8A499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269A-DB79-48DF-992F-979F5FD9D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7D27-A4E5-4AD1-942A-447E23346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02E0-32B7-4064-B395-768ED6871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B79B-FC81-4897-B82F-3C816139A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8D1C-6B8A-4821-A2D1-573B1B052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1F4B-4FFB-4236-BA87-6013FB76E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98C9-0F22-464A-8E49-C0067BA6B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83C5-5AE2-44DE-8922-3D6D3715B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AD54-AB31-4722-97C3-4DCF14A6A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FE52-006E-4328-95BE-89E49B4D3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EF08-0847-4592-A973-E1B63CAC1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BCF6-9CFF-42D8-BA66-F0B0F0A87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08B4-4BD8-483E-AD0D-E1E2B0155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17B4-4973-4308-927D-AD6D74265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A230-6380-45E5-893D-1AD6F0DE7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AE4D-EB47-4E3D-96C7-BA6C5DBEB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77F8-860B-47AE-80CA-C67BDC1A9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EE73-61D7-41D3-9466-15D371005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311A-85C5-4A8E-9199-A4BB7E68E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A823-D2CC-4F75-B880-3F96ACA89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296C-5871-409B-A644-8156EBABC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9444-08BA-4207-A9E4-36D6E58B4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A894-87DC-47B9-92C7-8D2B390EA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0B5D-910A-40F7-9085-3E14CE55C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1F8A-90B3-4F1A-BE45-5DF0D55FE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7DD3-1CD8-43D6-90FD-BE16F3F78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5A92-D3F9-477E-BC1F-E5E2E28D1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E4A6-04BE-4C8F-8486-CA0D7A533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B20E-71E1-4128-B349-8F4B2B8BB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F450-7BBA-4524-A25B-48064DAE5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B8DD-838A-41F6-8D8B-A44435541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4EE0-3009-4A7D-AD34-B6C9EB9D6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B910-98B9-41BC-9DEC-E13AAEADD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5B79-8C4A-4F58-B164-05FB0E19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0939-6CA9-49FE-9281-4BB658FA9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8FA7-E909-412F-A2DA-ED769CF9F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DD5E-C9F1-4132-A767-70D42A719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A126-6850-4CAF-BF39-6B35D76A2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C134-DFD9-453E-94DD-FB39C9EFF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308F-0E95-462F-BA53-189657BED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27A0-9722-49E8-AA32-D21629C4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19A-6374-453A-86DD-F2445A8E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30F-9CFE-4F29-89CC-45ED9700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391-5200-4263-8A04-3C4F8F5C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3D4F-E0F7-4A08-9061-E75933C6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71D3-AFB0-4777-8038-5574F613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8BE2-D26E-49B7-B19D-7E867908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2857-AB10-49CF-AF45-C820D574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F07A-9431-4BCB-BF84-24EA414F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860B-44EB-4A04-8784-E415F27E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2257-F0AB-47A4-AABC-9A5637D8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6E3-C85E-4598-B788-329D7D3A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8274-13B3-4CBF-9C3F-98CFA21D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E664-03C9-45BF-9FE6-4CCB50FC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21D5-5B4E-477C-8A34-8BBFD4C3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8815-9974-4B34-A2F3-043F7A45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9C71-2541-4231-A709-B8B4E15B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C67-AAB1-408F-8EE1-3F360760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D06-C771-4CE6-A8CE-0475A9BE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017-B084-47C5-B96F-8007B4DD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624-0CEA-411A-AFCB-71DB3169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4A2D-54F4-4709-882A-81209AC0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16A-88BB-4F16-96EC-775650E8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D90-D66F-4D76-86FA-38E2976D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EF14-F8F5-4589-9B4D-1BE5BD6D7DF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88AC-FB39-48C8-962B-63D8AA43B426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kahoot.it/#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Unit II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economic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SEMI1-SSEMI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Fi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0904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roups of people, such as families, that live together and purchase many goods to be shared by everyone in the group. …ex. Furniture, appliances, and cooking equipment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Rectangle 5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45040" cy="920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nifty-little-house"/>
          <p:cNvPicPr/>
          <p:nvPr/>
        </p:nvPicPr>
        <p:blipFill>
          <a:blip r:embed="rId2"/>
          <a:stretch/>
        </p:blipFill>
        <p:spPr>
          <a:xfrm>
            <a:off x="304920" y="3681360"/>
            <a:ext cx="8381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95200" y="10760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vides necessary goods and services that might otherwise not be provided by what the market dema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Rectangle 1" descr=""/>
          <p:cNvPicPr/>
          <p:nvPr/>
        </p:nvPicPr>
        <p:blipFill>
          <a:blip r:embed="rId1"/>
          <a:stretch/>
        </p:blipFill>
        <p:spPr>
          <a:xfrm>
            <a:off x="311040" y="152280"/>
            <a:ext cx="4260960" cy="920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7924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tional Defens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national%20defense3"/>
          <p:cNvPicPr/>
          <p:nvPr/>
        </p:nvPicPr>
        <p:blipFill>
          <a:blip r:embed="rId1"/>
          <a:stretch/>
        </p:blipFill>
        <p:spPr>
          <a:xfrm>
            <a:off x="1066680" y="2133720"/>
            <a:ext cx="74678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aintaining Public Par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%7B1606A0E1-9C7B-4E6F-A868-EB64A082153C%7D"/>
          <p:cNvPicPr/>
          <p:nvPr/>
        </p:nvPicPr>
        <p:blipFill>
          <a:blip r:embed="rId1"/>
          <a:stretch/>
        </p:blipFill>
        <p:spPr>
          <a:xfrm>
            <a:off x="30240" y="1569960"/>
            <a:ext cx="853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onu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washington-dc-monument-s"/>
          <p:cNvPicPr/>
          <p:nvPr/>
        </p:nvPicPr>
        <p:blipFill>
          <a:blip r:embed="rId1"/>
          <a:stretch/>
        </p:blipFill>
        <p:spPr>
          <a:xfrm>
            <a:off x="228600" y="2286000"/>
            <a:ext cx="84582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28600" y="3805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oth businesses and households pay taxes to benefit society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461880" y="2209680"/>
            <a:ext cx="76201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7189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ouseholds, businesses, and governments depend on each other in order for the economy to function smoothl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Rectangle 5" descr=""/>
          <p:cNvPicPr/>
          <p:nvPr/>
        </p:nvPicPr>
        <p:blipFill>
          <a:blip r:embed="rId1"/>
          <a:stretch/>
        </p:blipFill>
        <p:spPr>
          <a:xfrm>
            <a:off x="1042920" y="0"/>
            <a:ext cx="67658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0880" y="1752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sehold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re Labors &amp; Consum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inesse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re Producers and Consum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vernment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Produces, Consumes, and provides structure, regulations, law, and order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Rectangle 4" descr=""/>
          <p:cNvPicPr/>
          <p:nvPr/>
        </p:nvPicPr>
        <p:blipFill>
          <a:blip r:embed="rId1"/>
          <a:stretch/>
        </p:blipFill>
        <p:spPr>
          <a:xfrm>
            <a:off x="396720" y="304920"/>
            <a:ext cx="6766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ircular Flow of Economic Activity”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economic flow of MONEY between households, businesses, and governments is the </a:t>
            </a: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Circular Flow of Econ Activity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28600" y="228600"/>
            <a:ext cx="8373960" cy="606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orn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come in quietly and have a 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out your device (ask for an I-pad if you need 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on to kah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Arial"/>
                <a:ea typeface="Arial"/>
                <a:hlinkClick r:id="rId1"/>
              </a:rPr>
              <a:t>https://kahoot.it/#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rst Name, 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pretest for Micro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labor-union-7"/>
          <p:cNvPicPr/>
          <p:nvPr/>
        </p:nvPicPr>
        <p:blipFill>
          <a:blip r:embed="rId1"/>
          <a:stretch/>
        </p:blipFill>
        <p:spPr>
          <a:xfrm>
            <a:off x="152280" y="1500120"/>
            <a:ext cx="8610840" cy="4648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411120" y="365040"/>
            <a:ext cx="79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9bd5"/>
                </a:solidFill>
                <a:latin typeface="Arial"/>
              </a:rPr>
              <a:t>Factor / Resource Mar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440" y="1676520"/>
            <a:ext cx="8602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cludes all exchanges that businesses must make in order to produce things, because they involve the four factors of produ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nd****Rent (rent to landlord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bor****Wages (Wages to worker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trepreneurship &amp; Capital***Interest on a loan (people who lend them money to operate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52388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11120" y="365040"/>
            <a:ext cx="79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9bd5"/>
                </a:solidFill>
                <a:latin typeface="Arial"/>
              </a:rPr>
              <a:t>Factor / Resource Mar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where producers invest in new capital to increase producti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ployers find the labor necessary to run their busin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11120" y="365040"/>
            <a:ext cx="79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9bd5"/>
                </a:solidFill>
                <a:latin typeface="Arial"/>
              </a:rPr>
              <a:t>Factor / Resource Mar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duct Mark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108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ouseholds spend their money in the product mark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oods that are sold to consumers for final consump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33160" y="8377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eholds buying things that businesses have made creates a flow back to businesses as profits…Businesses use the profit to buy more resources in the factor market, so they can make more products for households to buy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ircular Flow Model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Fig_2"/>
          <p:cNvPicPr/>
          <p:nvPr/>
        </p:nvPicPr>
        <p:blipFill>
          <a:blip r:embed="rId1"/>
          <a:stretch/>
        </p:blipFill>
        <p:spPr>
          <a:xfrm>
            <a:off x="533520" y="2019240"/>
            <a:ext cx="80010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ere households are the demanders in the product market and suppliers in the factor market!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b. Explain the Role of Money and hot it facilitates exchang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middle-east-gues-speaker-biblical-business-graphic"/>
          <p:cNvPicPr/>
          <p:nvPr/>
        </p:nvPicPr>
        <p:blipFill>
          <a:blip r:embed="rId1"/>
          <a:stretch/>
        </p:blipFill>
        <p:spPr>
          <a:xfrm>
            <a:off x="228600" y="2209680"/>
            <a:ext cx="85345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artering to Mone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ey as a 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Medium of exchange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oney can be anything that a buyers and sellers in an economy are wiling to accept for paym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tandard of value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oney allows US to compare the econ. value of different goods and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SSEMI1: Goods, Services, and Money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The student will describe how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 Light"/>
              </a:rPr>
              <a:t>households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,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 Light"/>
              </a:rPr>
              <a:t>businesses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,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 Light"/>
              </a:rPr>
              <a:t>governments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ar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 Light"/>
              </a:rPr>
              <a:t>interdependent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 an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interact through flows of goods, services, and money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Groupwork: Illustrate A Circular Flow Diagra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ick a product that YOUR group likes and show how it goes through the Circular Flow Diagra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. Outline all of the flows of exchange and each element of the diagra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. Include Product Market, Resource Market, households, and Businesses and how they reac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. Explain the resources that are needed to make the product and how the household will PAY for the Product and USE the PRODUCT!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5. Put it in the circular flow model with all the appropriate arrows labeled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 2: Supply and Deman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21337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44546a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44546a"/>
                </a:solidFill>
                <a:latin typeface="Calibri"/>
              </a:rPr>
              <a:t>The student will explain how the </a:t>
            </a:r>
            <a:r>
              <a:rPr b="1" lang="en-US" sz="4800" spc="-1" strike="noStrike" u="sng">
                <a:solidFill>
                  <a:srgbClr val="44546a"/>
                </a:solidFill>
                <a:uFillTx/>
                <a:latin typeface="Calibri"/>
              </a:rPr>
              <a:t>Law of Demand</a:t>
            </a:r>
            <a:r>
              <a:rPr b="1" lang="en-US" sz="4800" spc="-1" strike="noStrike">
                <a:solidFill>
                  <a:srgbClr val="44546a"/>
                </a:solidFill>
                <a:latin typeface="Calibri"/>
              </a:rPr>
              <a:t>, the </a:t>
            </a:r>
            <a:r>
              <a:rPr b="1" lang="en-US" sz="4800" spc="-1" strike="noStrike" u="sng">
                <a:solidFill>
                  <a:srgbClr val="44546a"/>
                </a:solidFill>
                <a:uFillTx/>
                <a:latin typeface="Calibri"/>
              </a:rPr>
              <a:t>Law of Supply</a:t>
            </a:r>
            <a:r>
              <a:rPr b="1" lang="en-US" sz="4800" spc="-1" strike="noStrike">
                <a:solidFill>
                  <a:srgbClr val="44546a"/>
                </a:solidFill>
                <a:latin typeface="Calibri"/>
              </a:rPr>
              <a:t>, prices, and profits work to determine production and distribution in a market econom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2: 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efine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Law of Supply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Law of Dema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aw of Supply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5" descr="0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ppl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upply is the total quantity of a product that producers are willing to make and sell at a certain pric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aw of Suppl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 company needs to charge a price high enough to earn a profit. The higher the price a company can charge, the more it is willing to suppl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1" descr=""/>
          <p:cNvPicPr/>
          <p:nvPr/>
        </p:nvPicPr>
        <p:blipFill>
          <a:blip r:embed="rId1"/>
          <a:stretch/>
        </p:blipFill>
        <p:spPr>
          <a:xfrm>
            <a:off x="152280" y="384120"/>
            <a:ext cx="8839440" cy="92088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990720" y="1305000"/>
            <a:ext cx="8153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monies and goods flow through the econo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Fig_2"/>
          <p:cNvPicPr/>
          <p:nvPr/>
        </p:nvPicPr>
        <p:blipFill>
          <a:blip r:embed="rId2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pply Curv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lecture-supply-supply"/>
          <p:cNvPicPr/>
          <p:nvPr/>
        </p:nvPicPr>
        <p:blipFill>
          <a:blip r:embed="rId1"/>
          <a:stretch/>
        </p:blipFill>
        <p:spPr>
          <a:xfrm>
            <a:off x="533520" y="1828800"/>
            <a:ext cx="6933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emonstrates the relationship between price and suppl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Demand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5" descr="01010"/>
          <p:cNvPicPr/>
          <p:nvPr/>
        </p:nvPicPr>
        <p:blipFill>
          <a:blip r:embed="rId1"/>
          <a:stretch/>
        </p:blipFill>
        <p:spPr>
          <a:xfrm>
            <a:off x="380880" y="1981080"/>
            <a:ext cx="830592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quantity of a product that consumers are willing and able to buy at a certain pr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aw of Demand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higher the price of an item the lower the demand for it will be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s prices rise, quantity demanded decreases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mand Curv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5" descr="MkDm33"/>
          <p:cNvPicPr/>
          <p:nvPr/>
        </p:nvPicPr>
        <p:blipFill>
          <a:blip r:embed="rId1"/>
          <a:stretch/>
        </p:blipFill>
        <p:spPr>
          <a:xfrm>
            <a:off x="380880" y="1981080"/>
            <a:ext cx="83059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hows the relationship between price and dema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aw of Supply an Deman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tates that supply (What is produced) will be determined by what is demanded (what will consumers buy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2: b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escribe the role of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Buyers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Sellers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in determining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Market Clearing Pri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earing Market Pri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5" descr="eqm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52280" y="151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Illustrate by means of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ircular flow dia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oduct mark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esource mark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the real flow of goods and services between and among businesses, households, and government; and the flow of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Fig_2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Price at which producers are willing to make the same amount of a product that consumers dem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en buyers and sellers interact in a market…the Market clearing price is determined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5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en companies develop new products, an equilibrium price and quantity will eventually be determined by the interaction of buyers and seller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2: c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. Illustrate on a graph how supply and demand determine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equilibrium price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and quantity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quilibrium Pri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5" descr="350px-economic-surplusessvg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quilibrium Pri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s similar to Market clearing Price in that the Equilibrium price is placed on a chart that combines the supply curve and the demand curve on a graph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2: 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xplain how prices serve as incentives in a Market Econom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owering prices are an incentive for people to purchase more goods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5" descr="profiles_Lamborghini_3543_712669"/>
          <p:cNvPicPr/>
          <p:nvPr/>
        </p:nvPicPr>
        <p:blipFill>
          <a:blip r:embed="rId1"/>
          <a:stretch/>
        </p:blipFill>
        <p:spPr>
          <a:xfrm>
            <a:off x="304920" y="3657600"/>
            <a:ext cx="8839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SSEMI3: Supply and Deman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44546a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44546a"/>
                </a:solidFill>
                <a:latin typeface="Calibri"/>
              </a:rPr>
              <a:t>The student will explain how markets, prices, and competition influence economic behavio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3: 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dentify and illustrate on a graph factors that cause changes in market supply and dema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actors that cause Chang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decease in the price of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f the price of an item increases, demand for its substitutes increas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Fi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 3: b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. Explain and illustrate on a graph how price floors create surpluses and price ceilings create shortag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ce Flo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Price_floor_eqm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52280" y="21337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the minimum allowable price…Price Floors lead to surpluses…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urplus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ccur when supply exceeds demand…MILK is a prime example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rplus are noticed on a graph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en the demand is below the equilibrium price…a Surplus occur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ce Ceil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5" descr="Basic_price_ceiling"/>
          <p:cNvPicPr/>
          <p:nvPr/>
        </p:nvPicPr>
        <p:blipFill>
          <a:blip r:embed="rId1"/>
          <a:stretch/>
        </p:blipFill>
        <p:spPr>
          <a:xfrm>
            <a:off x="457200" y="1905120"/>
            <a:ext cx="84582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e Highest price that can be charged for a particular good or servic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hortag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 price below equilibrium results in a shortage of goods. Price Ceiling can lead to a shortage, because the demand maybe high but the supply low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: c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efine price elasticity of demand and supply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ce Elasticit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ensitivity of price to supply and demand and its tendency to fluctuate as supply and demand change is referred to as Price Elasticity.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ce is not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 changes depending on supply and deman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 more a change in price affects supply and/or demand, the greater a product’s price elasticity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ntent Placeholder 1" descr=""/>
          <p:cNvPicPr/>
          <p:nvPr/>
        </p:nvPicPr>
        <p:blipFill>
          <a:blip r:embed="rId1"/>
          <a:stretch/>
        </p:blipFill>
        <p:spPr>
          <a:xfrm>
            <a:off x="111240" y="1662120"/>
            <a:ext cx="4422600" cy="5195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646520" y="213372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9" descr="nifty-little-house"/>
          <p:cNvPicPr/>
          <p:nvPr/>
        </p:nvPicPr>
        <p:blipFill>
          <a:blip r:embed="rId2"/>
          <a:stretch/>
        </p:blipFill>
        <p:spPr>
          <a:xfrm>
            <a:off x="4592520" y="1674720"/>
            <a:ext cx="4572000" cy="518328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10" descr=""/>
          <p:cNvPicPr/>
          <p:nvPr/>
        </p:nvPicPr>
        <p:blipFill>
          <a:blip r:embed="rId3"/>
          <a:stretch/>
        </p:blipFill>
        <p:spPr>
          <a:xfrm>
            <a:off x="1590840" y="231840"/>
            <a:ext cx="53276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mand Inelastic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ithin limits, people will buy about the same amount of a product no matter what the price especially if there is no substitute… </a:t>
            </a:r>
            <a:r>
              <a:rPr b="0" lang="en-US" sz="4800" spc="-1" strike="noStrike">
                <a:solidFill>
                  <a:srgbClr val="ff9900"/>
                </a:solidFill>
                <a:latin typeface="Calibri"/>
              </a:rPr>
              <a:t>example Bread, Oil, Milk, and Eggs.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mand Elasticity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epends on the taste of individuals…items that are luxury on the other hand are sensitive to changes in price…think about houses in Henry Count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Is related to changes in prices and quantiti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4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usiness and Market Structur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SSEMI4 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The student will explain the organization and role of business and analyze the four types of market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structures in the U.S. economy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2120" y="518148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4: a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. Compare and contrast three forms of business organization—sole proprietorship, partnership, and corporatio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28600" y="990720"/>
          <a:ext cx="8915400" cy="607356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66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iness Typ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ed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tag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advantag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e Proprietorshi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por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tnership Advantage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pecialization of the partner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isadvantage of incorpor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ouble Tax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4: b.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Explain the role of profit as an incentive for entrepreneurs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Fi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fit is the incentive for entrepreneurs to take risk because that is why they created their business, to make mone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If they didn’t wish to make money, why would they create a business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21337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entrepreneurs don’t make their consumers happy, the consumers will not buy their product and they will lose mone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 long as entrepreneurs make a product and the consumer is willing to buy it, their goal of making money is reach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SEMI4: c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dentify the basic characteristics o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monopoly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oligopoly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monopolistic competition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pure competition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Monopol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 structure characterized by a single producer; form of imperfect competi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ligopol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et structure in which a few large sellers dominate and have the ability to affect the prices in the industry; form of imperfect compet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onopolistic Competi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 structure having all conditions of pure competition except for identical products; form of imperfect competi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ure Competition –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ndependent buyers and sellers making informed decisions on products they wish to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urchase and sel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7160" y="1152360"/>
            <a:ext cx="788652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roduce Goods and Servic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4029120" cy="92052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1" descr=""/>
          <p:cNvPicPr/>
          <p:nvPr/>
        </p:nvPicPr>
        <p:blipFill>
          <a:blip r:embed="rId2"/>
          <a:stretch/>
        </p:blipFill>
        <p:spPr>
          <a:xfrm>
            <a:off x="533520" y="2895480"/>
            <a:ext cx="8153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6:57:25Z</dcterms:created>
  <dc:creator>Kristen</dc:creator>
  <dc:description/>
  <dc:language>en-US</dc:language>
  <cp:lastModifiedBy>Patrick Ethington</cp:lastModifiedBy>
  <dcterms:modified xsi:type="dcterms:W3CDTF">2015-09-08T11:37:00Z</dcterms:modified>
  <cp:revision>13</cp:revision>
  <dc:subject/>
  <dc:title>Unit II</dc:title>
</cp:coreProperties>
</file>